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4C0-0D0E-4AD3-87AD-A112C2EB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BD4-5BB5-4C3F-889F-042E353E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878-7654-45BE-85BB-7171D713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6F0-42EF-49B8-87F9-89CEDD1F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19B-185E-4B2C-942B-C0ED35F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685-204D-4FF9-9FA4-1541FDB1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881-169C-4D7C-A4DC-C0D0E62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23D-4AAF-4563-9F60-73EBFEB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5B6-7F3D-4B19-B590-710CB29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FD6-B3F8-4DB3-AE8E-CB59EF1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13F-8CC2-4B39-9D15-4C885DBE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965-D182-4CDD-BB00-291B621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6D5-502A-4D7E-8224-2EB1831A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washington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80921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postcardsfrom.com/t1/980922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51055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762120"/>
            <a:ext cx="7391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ashingt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986360"/>
            <a:ext cx="342900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4648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20574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linois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0/7/10,www.50states.com/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name: Washing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Olym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5,894,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November 11 1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: By an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vergre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Pink Rhododend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Willow gold fin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ashington m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after George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1224000" cy="128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972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shington: Map and State Flag"/>
          <p:cNvPicPr/>
          <p:nvPr/>
        </p:nvPicPr>
        <p:blipFill>
          <a:blip r:embed="rId1"/>
          <a:srcRect l="8337" t="0" r="8337" b="63256"/>
          <a:stretch/>
        </p:blipFill>
        <p:spPr>
          <a:xfrm rot="20701800">
            <a:off x="607680" y="1292400"/>
            <a:ext cx="3048120" cy="18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ashington: Map and State Flag"/>
          <p:cNvPicPr/>
          <p:nvPr/>
        </p:nvPicPr>
        <p:blipFill>
          <a:blip r:embed="rId2"/>
          <a:srcRect l="1906" t="54165" r="3645" b="2955"/>
          <a:stretch/>
        </p:blipFill>
        <p:spPr>
          <a:xfrm rot="897600">
            <a:off x="5140080" y="1430280"/>
            <a:ext cx="316692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56272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’s Guide to U.S govrnment,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ick Facts:Washingt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2/2010.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washing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picture of Washington’s outline and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River and deep gorge"/>
          <p:cNvPicPr/>
          <p:nvPr/>
        </p:nvPicPr>
        <p:blipFill>
          <a:blip r:embed="rId1"/>
          <a:stretch/>
        </p:blipFill>
        <p:spPr>
          <a:xfrm>
            <a:off x="0" y="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3276720"/>
            <a:ext cx="434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s from Americ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umbia River washington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/23/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postcardsfrom.com/t1/9809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ll images Copyright © 1997 - 2000 WriteLine. All Rights Reserved. Panoramic of balconies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24280" y="3276720"/>
            <a:ext cx="4419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s form America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ympia, WA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/23/20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postcardsfrom.com/t1/98092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22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icture of the Columbia river in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1522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the picture of the Washington capital Olym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2Z</dcterms:created>
  <dc:creator>install</dc:creator>
  <dc:description/>
  <dc:language>en-US</dc:language>
  <cp:lastModifiedBy>install</cp:lastModifiedBy>
  <dcterms:modified xsi:type="dcterms:W3CDTF">2010-10-14T15:21:21Z</dcterms:modified>
  <cp:revision>10</cp:revision>
  <dc:subject/>
  <dc:title>Slide 1</dc:title>
</cp:coreProperties>
</file>